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51A9B-ED7F-4288-9DDF-E2904F11B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A0636-2531-4F99-B96C-8952AA450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2F342-5127-45D5-A922-3BEA55E0A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32D5A-2957-4E98-AA9A-0AB33F7CA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DDE12-4428-4A2F-B93A-AB21F19D0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25EC9-C5B5-4345-94E7-0F3659A88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E3297-BA55-4221-8710-6D4952E79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695A4-A584-4BC2-93E3-36DDD6A3E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49CB3-C45F-44EE-8CA2-F6F6EA87E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1D7CB-2D17-4E98-BDEE-E3661EC0B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29A0E-03E3-4CE9-89D8-BE7B528D6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025AC-1A81-464A-8C24-F12F7D720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0BB1C-79BE-4FB2-AE83-B295EE781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A64C3-7072-49B4-ACE0-14065395C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055EB-6B25-48D4-A409-6C1C269D0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0C2C4-1C39-4CFD-A88E-EB255AA62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F7E58-CD6A-42FC-85F9-BFBDB1652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11F39-0AA0-4CF3-A6FF-465FD9368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44807-B79D-4F33-B18C-8710D6DDD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3B87C-4255-4726-B636-2D32C856D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F3BAC-E134-405D-B919-4A56DCA2F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EBA53-E42D-49A9-BB9A-25E62D7D8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5B57D-C9A0-4D64-9AC0-807A13C35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07CEC-2683-4B02-8FE8-E234A96A9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758C2-0BF5-4517-B660-54E0A48C098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D2C56-8338-444F-82BF-EA6BC64C438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eec94"/>
                </a:solidFill>
                <a:latin typeface="Times New Roman"/>
              </a:rPr>
              <a:t>Till There Was No Remedy</a:t>
            </a:r>
            <a:br>
              <a:rPr sz="4800"/>
            </a:br>
            <a:r>
              <a:rPr b="1" lang="en-US" sz="4800" spc="-1" strike="noStrike">
                <a:solidFill>
                  <a:srgbClr val="feec94"/>
                </a:solidFill>
                <a:latin typeface="Times New Roman"/>
              </a:rPr>
              <a:t>(The Divided Kingdom)</a:t>
            </a: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Quarter 6, Lesson 1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g.37-4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 Chron.19-20; 1 Kings 22:48 – 2 Kings 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920880"/>
            <a:ext cx="9144000" cy="593712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066680" y="30492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Our Study Thus F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5334120" y="761760"/>
            <a:ext cx="0" cy="60948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334120" y="762120"/>
            <a:ext cx="38098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28600" y="990720"/>
            <a:ext cx="8686800" cy="564192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1143000" y="228600"/>
            <a:ext cx="670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Where We Are In Our Stud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57200" y="3200400"/>
            <a:ext cx="0" cy="76212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57200" y="457200"/>
            <a:ext cx="0" cy="26668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990720" y="3809880"/>
            <a:ext cx="4038480" cy="274320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143000" y="4114800"/>
            <a:ext cx="3581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hab had died in the 17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year of the reign of Jehoshaph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The Prophet Jehu Rebukes Jehoshaphat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me of his actions of unbelief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liances with Ahab: Helping “those who hate the Lord” – 2 Chron.19:1-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rchant ship alliance with King Ahaziah – 20:35-37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Ahaziah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 years, though co-regent with his fath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other Evil King of Isra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tinues Jeroboam’s sin of idolatry in Isra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is serious fall and injury – 2 Kings 1:1-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lijah said he would die. 3-4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haziah’s fury toward Elijah. 5-9,1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fire that consumes – 10,1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lijah is vindicated in Ahaziah’s deat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Jehoshaphat’s Further Reforms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 Chron.19:4-1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ood things he did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ppoints godly judges throughout the lan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dmonishes them to deal justly with all the peop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t aside all tendency to let bribes color their judgmen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Invasion of Moabites, Ammonites, and Men From Mt. Seir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 Chron.20:3-3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ear of a coming storm of war – vs.1-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lution to Jehoshaphat’s fear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claims a public fast – v.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ays a public prayer – 4-1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sks God’s protec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ahaziel sends word of victory from the Lord.13-17  “The battle belongs to the Lord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mazing grace, victory, celebration.18-3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299200" cy="68580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2057400" y="48769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Mt.Sei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H="1" flipV="1">
            <a:off x="1980720" y="4495680"/>
            <a:ext cx="304920" cy="45720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 flipV="1">
            <a:off x="2133360" y="4343040"/>
            <a:ext cx="228600" cy="30492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2133720" y="4267080"/>
            <a:ext cx="30456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562720" y="53352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Invasion of Moabites, Ammonites, and Men From Mt. Sei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562720" y="2895480"/>
            <a:ext cx="327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When the enemy presses in hard do not fear, the battle belongs to the Lord…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9" dur="3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4" dur="3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9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01T13:35:18Z</dcterms:created>
  <dc:creator>Terry W. Benton</dc:creator>
  <dc:description/>
  <dc:language>en-US</dc:language>
  <cp:lastModifiedBy>Frank D Vines</cp:lastModifiedBy>
  <dcterms:modified xsi:type="dcterms:W3CDTF">2005-08-03T14:07:36Z</dcterms:modified>
  <cp:revision>2</cp:revision>
  <dc:subject/>
  <dc:title>Till There Was No Remedy (The Divided Kingdom)</dc:title>
</cp:coreProperties>
</file>